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0D1F-7E73-465A-8A34-19D260C59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121E-B66F-4865-8BC6-1E78982304E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C841-4BF2-4026-B09C-A9CDEAF7C74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39F9-CE7A-4C40-A942-17D9BA815B6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A80-4807-4156-AF91-F734AEBD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E57-6955-4BFA-92BF-879C7BF3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994-5821-4457-BCB4-B5F29452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D44-04F9-4538-9533-38459088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741F-2F10-4016-BFCD-0434DD4A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FB30-8CCF-40CB-A8AB-9C6C9B21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BDEA-28F6-4F7E-B25D-9F6CD4B9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E666-FA09-4AD3-A81A-EC407532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3C8C-1AB7-4F9A-BEAE-96C0364F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6C5C-FA5F-4A80-8865-CBF92C97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8FC8-F312-4DF3-92D8-E9B63C98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982-BDC4-4629-9F76-07241817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172D-B685-4ECD-9C2D-164BD855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873C-F886-4917-AE2E-A3B81CF2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3165-F05B-4065-ABA7-80307293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6022-5A1E-4E3E-971D-608E4777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7F45-38E0-4847-BBFC-31AC6C6E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CCB-20F5-4EB7-9EAC-29F487E8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5D7-769E-46D1-BBA3-8727A758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83B-A479-4808-91A7-5F0C1483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DFA-E4C3-4028-97FE-56303D80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37D-9D78-4F3E-9154-4CFAA5BF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6C2-844F-465F-A7DD-B0EF7192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610-2ACC-410D-AE12-40E94A98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46BC-408C-4261-A0A1-C3ED519CD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66D0-2E57-432F-A786-42D7C653E071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ssessing Texts to Plan for Explicit Instru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se what you’ve learned about narrative and expository text features AND how to scaffold understanding of challenging text to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ocate &amp; note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llenging feature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/or content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pose an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structional practice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at could be used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plicitly teach about expository text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il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building comprehension and motivation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o read further at each of these challenging poin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dentify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hen in the teaching cycle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you would integrate this practice (before, during, and/or after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4" name="Picture 3" descr="Screen shot 2012-09-30 at 11.22.13 AM.png"/>
          <p:cNvPicPr/>
          <p:nvPr/>
        </p:nvPicPr>
        <p:blipFill>
          <a:blip r:embed="rId3"/>
          <a:stretch/>
        </p:blipFill>
        <p:spPr>
          <a:xfrm>
            <a:off x="7467480" y="685800"/>
            <a:ext cx="1373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200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d Common Core Standards material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7" name="Picture 5" descr="Screen shot 2013-09-29 at 5.48.51 PM.png"/>
          <p:cNvPicPr/>
          <p:nvPr/>
        </p:nvPicPr>
        <p:blipFill>
          <a:blip r:embed="rId2"/>
          <a:stretch/>
        </p:blipFill>
        <p:spPr>
          <a:xfrm>
            <a:off x="4114800" y="133200"/>
            <a:ext cx="50292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Synthesize key ideas about </a:t>
            </a: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narrative and expository text structure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Textbook, Karen Wixson, and Barbara Moss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See a model of explicit instruction around expository text (I Do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Practice planning explicit instruction around expository text (We Do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urn and Tal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are th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difference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tween narrative and expository texts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ich texts ar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ore challenging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o readers and why?  Use evidence from your readings to support your reasoning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 this context, what do you think is the meaning of the phrase “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fourth grade slump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” 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How might we counteract the fourth grade slump? </a:t>
            </a:r>
            <a:r>
              <a:rPr b="1" lang="en-US" sz="2800" spc="-1" strike="noStrike">
                <a:solidFill>
                  <a:srgbClr val="320000"/>
                </a:solidFill>
                <a:latin typeface="Arial"/>
              </a:rPr>
              <a:t>(Wixson? Moss? Cornett?)</a:t>
            </a:r>
            <a:endParaRPr b="0" lang="en-US" sz="28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Exposure to more informational texts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(Wixson)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Increases vocab, comprehension, motivation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Builds knowledge of expository text structure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Improves reading, writing, content knowledge and home-school literacy connection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Exposure and explicit instruction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(Moss)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Model and practice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retelling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 as precursor to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synthesis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Attend to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text structure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,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signal words,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relationships between idea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Take advantage of enthusiasm and link to real world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rrative Texts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(tell a story) …</a:t>
            </a:r>
            <a:br>
              <a:rPr sz="2400"/>
            </a:b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(characters confront problems &gt; which sets up a plot)</a:t>
            </a:r>
            <a:endParaRPr b="0" lang="en-US" sz="2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etting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n and where does the story take plac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o is the story about? Who wants something?  By the end, who changes the most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lot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problem? What happened? Why? How was the problem solved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eme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text really about? What’s the universal messag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oint of view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o is telling the story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tylistic Elements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are words used in special ways (e.g., fig. lang, mood, humor, iron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ository texts (to explain, inform, or persuade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onfiction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accurate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Vs Informationa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blends non-fiction with some narrative element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xpositional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= “explanatory” writing with common thinking patterns &gt; which pattern(s) does the author use to make his argument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are the common expository text patterns?  What signal words are associated with each pattern? 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ository Text Patter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mpare/Contras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ause/Effec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escription/Explan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quenc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blem-Solu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588920" y="2052720"/>
            <a:ext cx="338400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oth, in contrast, while.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587480" y="2666880"/>
            <a:ext cx="325008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, therefore; if/then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589280" y="3500280"/>
            <a:ext cx="322884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or example; details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592160" y="4267080"/>
            <a:ext cx="392508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irst, second, next, finally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590720" y="4948200"/>
            <a:ext cx="409284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blem, question, answer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10" name="Straight Arrow Connector 11"/>
          <p:cNvCxnSpPr>
            <a:endCxn id="105" idx="1"/>
          </p:cNvCxnSpPr>
          <p:nvPr/>
        </p:nvCxnSpPr>
        <p:spPr>
          <a:xfrm flipV="1">
            <a:off x="4191120" y="2284200"/>
            <a:ext cx="381600" cy="216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1" name="Straight Arrow Connector 12"/>
          <p:cNvCxnSpPr/>
          <p:nvPr/>
        </p:nvCxnSpPr>
        <p:spPr>
          <a:xfrm>
            <a:off x="3352320" y="2895120"/>
            <a:ext cx="1143720" cy="108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2" name="Straight Arrow Connector 14"/>
          <p:cNvCxnSpPr/>
          <p:nvPr/>
        </p:nvCxnSpPr>
        <p:spPr>
          <a:xfrm flipV="1">
            <a:off x="3124080" y="3809160"/>
            <a:ext cx="1372320" cy="252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3" name="Straight Arrow Connector 16"/>
          <p:cNvCxnSpPr/>
          <p:nvPr/>
        </p:nvCxnSpPr>
        <p:spPr>
          <a:xfrm flipV="1">
            <a:off x="2895120" y="4571640"/>
            <a:ext cx="1600920" cy="216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4" name="Straight Arrow Connector 18"/>
          <p:cNvCxnSpPr/>
          <p:nvPr/>
        </p:nvCxnSpPr>
        <p:spPr>
          <a:xfrm flipV="1">
            <a:off x="4114800" y="5105160"/>
            <a:ext cx="381600" cy="216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sp>
        <p:nvSpPr>
          <p:cNvPr id="115" name="TextBox 13"/>
          <p:cNvSpPr/>
          <p:nvPr/>
        </p:nvSpPr>
        <p:spPr>
          <a:xfrm>
            <a:off x="1490040" y="5657760"/>
            <a:ext cx="7011360" cy="1191240"/>
          </a:xfrm>
          <a:prstGeom prst="rect">
            <a:avLst/>
          </a:prstGeom>
          <a:solidFill>
            <a:srgbClr val="ffe2aa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do these signal words help build a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ental representation of the text? What happens if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 signal words are not in the text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factors make texts difficult? (your handout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520" y="1980720"/>
            <a:ext cx="777240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enr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ext structur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mes and ideas (the big pictur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anguage and literary featur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Vocabulary and word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ntence complexit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ook and print featur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343400" y="2057400"/>
            <a:ext cx="4114800" cy="1313640"/>
          </a:xfrm>
          <a:prstGeom prst="rect">
            <a:avLst/>
          </a:prstGeom>
          <a:solidFill>
            <a:srgbClr val="ffe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How (and when) can explicit instruction help focus students’ attention on these elements to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build deeper understanding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Modeling Explicit Instruction of Expository Text Comprehension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20" name="Picture 3" descr="Screen shot 2012-09-30 at 11.22.13 AM.png"/>
          <p:cNvPicPr/>
          <p:nvPr/>
        </p:nvPicPr>
        <p:blipFill>
          <a:blip r:embed="rId1"/>
          <a:stretch/>
        </p:blipFill>
        <p:spPr>
          <a:xfrm>
            <a:off x="533520" y="2133720"/>
            <a:ext cx="30430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3764880" y="1905120"/>
            <a:ext cx="49068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an you imagine digging a hole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 your backyard to plant some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lowers and, to your surprise,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you uncover treasures from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re than 1,000 years ago?? </a:t>
            </a:r>
            <a:br>
              <a:rPr sz="2400"/>
            </a:b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would you do?  Would you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tell anyone?  Why or why no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Let’s read The First Discovery to find out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happened when a farmer named 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Enzecchetta digs out a well in southern 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taly to discover something unbelievable!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14:40:05Z</dcterms:created>
  <dc:creator>Julie Coiro</dc:creator>
  <dc:description/>
  <dc:language>en-US</dc:language>
  <cp:lastModifiedBy>Julie Coiro</cp:lastModifiedBy>
  <dcterms:modified xsi:type="dcterms:W3CDTF">2013-10-01T16:42:52Z</dcterms:modified>
  <cp:revision>218</cp:revision>
  <dc:subject/>
  <dc:title>Metacognitive Strategy Instruction to Enhance Reading Comprehension</dc:title>
</cp:coreProperties>
</file>